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872496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040" y="3706920"/>
            <a:ext cx="872496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20636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19040" y="370692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89880" y="370692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280908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68880" y="1206360"/>
            <a:ext cx="280908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318720" y="1206360"/>
            <a:ext cx="280908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19040" y="3706920"/>
            <a:ext cx="280908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68880" y="3706920"/>
            <a:ext cx="280908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318720" y="3706920"/>
            <a:ext cx="280908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19040" y="1206360"/>
            <a:ext cx="87249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872496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425772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206360"/>
            <a:ext cx="425772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69960" y="325800"/>
            <a:ext cx="726912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9880" y="1206360"/>
            <a:ext cx="425772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9040" y="370692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425772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9880" y="120636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89880" y="370692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89880" y="1206360"/>
            <a:ext cx="42577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9040" y="3706920"/>
            <a:ext cx="872496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9960" y="3258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206360"/>
            <a:ext cx="872496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2120"/>
            <a:ext cx="9144000" cy="139680"/>
          </a:xfrm>
          <a:prstGeom prst="rect">
            <a:avLst/>
          </a:prstGeom>
          <a:gradFill rotWithShape="0">
            <a:gsLst>
              <a:gs pos="0">
                <a:srgbClr val="0b8fc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355920" y="6359400"/>
            <a:ext cx="2252880" cy="4320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466120" y="63360"/>
            <a:ext cx="500040" cy="538200"/>
            <a:chOff x="8466120" y="63360"/>
            <a:chExt cx="500040" cy="538200"/>
          </a:xfrm>
        </p:grpSpPr>
        <p:sp>
          <p:nvSpPr>
            <p:cNvPr id="5" name=""/>
            <p:cNvSpPr/>
            <p:nvPr/>
          </p:nvSpPr>
          <p:spPr>
            <a:xfrm>
              <a:off x="8466120" y="63360"/>
              <a:ext cx="500040" cy="538200"/>
            </a:xfrm>
            <a:prstGeom prst="rect">
              <a:avLst/>
            </a:prstGeom>
            <a:solidFill>
              <a:srgbClr val="000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55760" y="213120"/>
              <a:ext cx="45360" cy="4932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20920" y="151560"/>
              <a:ext cx="45360" cy="4896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26120" y="223560"/>
              <a:ext cx="44640" cy="4896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770680" y="159120"/>
              <a:ext cx="44280" cy="4896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19640" y="388080"/>
              <a:ext cx="46440" cy="4896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69960" y="455400"/>
              <a:ext cx="44640" cy="4896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51440" y="392760"/>
              <a:ext cx="45360" cy="5004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11200" y="453240"/>
              <a:ext cx="44640" cy="5004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30920" y="307080"/>
              <a:ext cx="46080" cy="5004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44840" y="307080"/>
              <a:ext cx="44280" cy="5004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93280" y="480240"/>
              <a:ext cx="45360" cy="5004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3280" y="132480"/>
              <a:ext cx="45360" cy="48960"/>
            </a:xfrm>
            <a:prstGeom prst="star5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103320" y="6353280"/>
            <a:ext cx="1260360" cy="43164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 flipV="1">
            <a:off x="0" y="6222600"/>
            <a:ext cx="9144000" cy="1800"/>
          </a:xfrm>
          <a:prstGeom prst="line">
            <a:avLst/>
          </a:prstGeom>
          <a:ln w="28440">
            <a:solidFill>
              <a:srgbClr val="0b8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" descr=""/>
          <p:cNvPicPr/>
          <p:nvPr/>
        </p:nvPicPr>
        <p:blipFill>
          <a:blip r:embed="rId4"/>
          <a:stretch/>
        </p:blipFill>
        <p:spPr>
          <a:xfrm>
            <a:off x="7816680" y="6359400"/>
            <a:ext cx="1167120" cy="419400"/>
          </a:xfrm>
          <a:prstGeom prst="rect">
            <a:avLst/>
          </a:prstGeom>
          <a:ln w="0">
            <a:noFill/>
          </a:ln>
        </p:spPr>
      </p:pic>
      <p:sp>
        <p:nvSpPr>
          <p:cNvPr id="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189000" y="203040"/>
          <a:ext cx="98244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000" y="203040"/>
                    <a:ext cx="982440" cy="432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1.wmf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6320" y="168120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s-ES" sz="2800" spc="-1" strike="noStrike">
                <a:solidFill>
                  <a:srgbClr val="000066"/>
                </a:solidFill>
                <a:latin typeface="Arial"/>
              </a:rPr>
              <a:t>TECNOEUROPA-INGENIO 2010</a:t>
            </a:r>
            <a:br>
              <a:rPr sz="2800"/>
            </a:br>
            <a:r>
              <a:rPr b="1" i="1" lang="es-ES" sz="2800" spc="-1" strike="noStrike">
                <a:solidFill>
                  <a:srgbClr val="000066"/>
                </a:solidFill>
                <a:latin typeface="Arial"/>
              </a:rPr>
              <a:t>Medidas para activar la participación de empresas y asociaciones en el VII Programa Marco</a:t>
            </a:r>
            <a:r>
              <a:rPr b="1" i="1" lang="pt-PT" sz="28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52560" y="4322520"/>
            <a:ext cx="7740720" cy="1615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ct val="7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avier García Serran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partamento de Impuso a la I+D Internacional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rección Internacional. CDTI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drid, 9 de febrero de 2007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37600"/>
            <a:ext cx="7853400" cy="351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Creación de Unidades de Innovación Internac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1206360"/>
            <a:ext cx="8724960" cy="63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se de arranque: Contrato de subcontratación de servicios con el CDTI por una cantidad inicial que permita la constitución y arranque de la U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se de consolidación: Contrato posterior que fijará la cantidad máxima anual en función  de las propuestas de calidad presentadas y del número de empresas nuevas  participantes en el PM asesoradas por la U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ant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ato de arranque : hasta 200.000 € en base a un Plan Estratégico Asociativo (PEA) presentado y aprobado por el CD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rato de consolidación: hasta 10 % del retorno d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empresas nueva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sociadas en el VII PM en el año anterior con un techo 200.000 € en los tres años posteriores a la creación (2008-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73240" y="296640"/>
            <a:ext cx="7432560" cy="351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Creación de Unidades de Innovación Internac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206360"/>
            <a:ext cx="876312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vocatorias: procedimiento de concurrencia abier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iter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ecuación a la misión de la entidad en relación a la I+D+I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lidad y viabilidad del Plan Estratégico Asociativo (PEA) para la captación de retor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operación con otras redes y/o agentes (grupos de investigación y centros tecnológicos en particul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riencia internacional del equipo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osición del consorcio (en su ca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or añadido en retornos españ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382320"/>
            <a:ext cx="6607080" cy="351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Creación de Unidades de Innovación Internac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040" y="1206360"/>
            <a:ext cx="872496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 primer pago a fondo perdido se realizará tras la firma del contrato de arranque y la aceptación por parte del CDTI del Plan Estratégico Asoci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s la firma del contrato de consolidación, anualmente se hará una certificación con los resultados y correspondientes pagos y reajustes si hubiera l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s UII deberán acreditar al CDTI por medio de certificaciones de las correspondientes empresas asociadas su efectiva intervención y apoyo directo en la preparación de las propuestas presentadas a la 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3280" y="33228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cio de bonos tecnológic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040" y="907920"/>
            <a:ext cx="87249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285840" indent="-285840">
              <a:lnSpc>
                <a:spcPct val="9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Objetivo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Identificación de empresas con potencial de participación y liderazgo en el Programa Marco y elaboración de estrategias de internacionalización de la I+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A quién va dirigido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Agentes intermedios como consultoras, centros tecnológicos, OTRIS, centros de investigación, o cualquier otra entidad con capacidad técnica y juríd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Instrumento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Contrato de prestación de servicios entre el CDTI y la entidad colaboradora/intermedi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Servicios a contratar por el CDTI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La entidad identificará empresas nuevas* con potencial de participación en el Programa Marco y elaborará un Plan Estratégico  Individualizado (PEI) para cada una en relación al VII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661000"/>
            <a:ext cx="8748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66"/>
                </a:solidFill>
                <a:latin typeface="Arial"/>
              </a:rPr>
              <a:t>* Se considera empresa nueva la que no tenga aprobados proyectos como socio en el VIPM o que, de tenerlo, no lo haya hecho como líder y en el VII PM lo sea. Se incluyen las empresas con CRAFT aprobado en el VI PM que ahora participen en proyectos colaborativos</a:t>
            </a:r>
            <a:r>
              <a:rPr b="1" lang="es-ES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33228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Servicio de bonos tecnológic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040" y="1206360"/>
            <a:ext cx="872496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285840" indent="-285840">
              <a:lnSpc>
                <a:spcPct val="7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Servicios contratados por el CDTI a la entidad colabor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atos de la empresa ident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strategia de actuación internac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Áreas temáticas relacionadas con la actividad y/o necesidades de I+D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elación de potenciales socios europeos (industriales, científicos y tecnológicos) de reconocida excelencia en cada área temáticas correspond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onvocatorias del VII PM relacionadas con la actividad de I+D de la empresa y relación de ideas preliminares de proyectos potenciales a presen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elación de entidades de ámbito nacional o europeo (consultoras, centros de conocimiento, etc) potenciales a encargarse de la preparación de propuestas lider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360" y="25920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Servicio de bonos tecnológic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125000"/>
            <a:ext cx="8724960" cy="48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antías: hasta 3.000 € por cada Plan Estratégico Individual (PEI). Adicionalmente hasta 5.000 € por cada empresa  que presente propuesta* como socio (hasta 15.000 € si resulta financiada) y hasta 10.000 € por cada empresa  que presente propuesta* como líder (hasta 20.000 € si resulta financiada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La participación mínima de la empresa en el presupuesto deberá ser de 200.000 €). Las propuestas no financiadas deberán ser elegibles y supera un umbral de evaluación por parte de la Comisión Europe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to: Acuse de recibo de presentación de la propuesta con la firma del Director General o Gerente de la empresa certificando la colaboración del agente intermedio en la preparación de la propues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o: Una vez recibida la evaluación por la Comisión Europea. Se considerará sólo una propuestas elegible por empresa que alcance el 80% del umbral de evaluación establecido en la convocatori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414360"/>
            <a:ext cx="7269120" cy="324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Mejores ayudas para la preparación de propuestas APC +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040" y="1125360"/>
            <a:ext cx="872496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Objetiv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Ayudar a las empresas a sufragar los gastos derivados de la preparación de propuestas al VII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 quién va dirigid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ociedades mercantiles que participen o lideren proyectos / actividades financiadas por el VII P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Instrument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Contrato privado de préstamo entre el CDTI y la entidad benefici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uantí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Máximo 50.000 € por proyecto /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Requisit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La participación de la empresa en el presupuesto del proyecto / actividad deberá superar los 200.000 € y que represente, a su vez, como mínimo un 5% de particip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uantía de las ayud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 establece un límite máximo de 200.000 €/empresa cada tres años de APC no devueltas (minim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0760" y="352080"/>
            <a:ext cx="7269120" cy="351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 Mejores ayudas directas para la preparación de APC +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8724960" cy="3600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ondiciones de devolució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El crédito se devolverá en una plazo de seis meses desde que lo requiera el CDTI en los siguientes supuesto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 propuesta no resulta elegible o no alcanza el 80% del umbral de evaluación establecido por la C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 propuesta  resulta financiada, salvo en el caso de que la empresa solicitante haya conseguido participar por primera vez o  lidere la propuest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41640" y="3743280"/>
            <a:ext cx="508320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3228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Medidas de acompañamiento (prelimina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206360"/>
            <a:ext cx="8724960" cy="5082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yudas para asistencia a cursos de formación en gestión de proyectos internacionales a cambio de sponsorización CDTI a determin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yudas para la contratación de gestores de proyectos comunitarios y Expertos Nacionales Destacados (END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inanciación de bolsas de viaje para la asistencia a eventos relacionados con el VII PM (Infoday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inanciación de “Guías Temáticas” más detallad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ctuaciones puntuales de promoció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tc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9040" y="1486080"/>
            <a:ext cx="8724960" cy="3738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Mejora sustancial de las ayud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agos en función de resulta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mentar la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creación de Unidades de Innovación Internacion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que contraten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gestores profesionales de proyectos internacional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anto en centros de investigación como en asociaciones empresaria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Facilitar a las empresa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a contratación de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entidades excelent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ara la elaboración de propuestas de calida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40000" y="19584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men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6880" y="1539720"/>
            <a:ext cx="8569440" cy="3444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 el principal contacto a nivel operativo de gestión del Programa con la Comisión Europe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robación de proyectos que superen 1,5 M€ de contribución C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cipa en la discusión y aprobación de los Programas de Trabaj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 punto de encuentro para discusión de Plataformas Tecnológicas, Grupos de Trabajo, etc.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196560"/>
            <a:ext cx="731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 CDTI y el Programa 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1840" y="253080"/>
            <a:ext cx="726948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oyo a las entidades españolas desde el CDT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596360" y="4869000"/>
            <a:ext cx="1263600" cy="723600"/>
            <a:chOff x="7596360" y="4869000"/>
            <a:chExt cx="1263600" cy="723600"/>
          </a:xfrm>
        </p:grpSpPr>
        <p:sp>
          <p:nvSpPr>
            <p:cNvPr id="105" name=""/>
            <p:cNvSpPr/>
            <p:nvPr/>
          </p:nvSpPr>
          <p:spPr>
            <a:xfrm>
              <a:off x="7596360" y="4869000"/>
              <a:ext cx="1263600" cy="723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Otr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rogra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8391600" y="5013360"/>
              <a:ext cx="397440" cy="16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7596360" y="3716280"/>
            <a:ext cx="1263600" cy="941400"/>
            <a:chOff x="7596360" y="3716280"/>
            <a:chExt cx="1263600" cy="941400"/>
          </a:xfrm>
        </p:grpSpPr>
        <p:sp>
          <p:nvSpPr>
            <p:cNvPr id="108" name=""/>
            <p:cNvSpPr/>
            <p:nvPr/>
          </p:nvSpPr>
          <p:spPr>
            <a:xfrm>
              <a:off x="7596360" y="3716280"/>
              <a:ext cx="1263600" cy="9414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Evalua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exter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om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029800" y="4440240"/>
              <a:ext cx="338760" cy="16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3727440" y="1314360"/>
            <a:ext cx="1228680" cy="435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or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1720" y="1241280"/>
            <a:ext cx="1301760" cy="579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er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voc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8840" y="1531800"/>
            <a:ext cx="3396960" cy="1882440"/>
            <a:chOff x="258840" y="1531800"/>
            <a:chExt cx="3396960" cy="1882440"/>
          </a:xfrm>
        </p:grpSpPr>
        <p:sp>
          <p:nvSpPr>
            <p:cNvPr id="113" name=""/>
            <p:cNvSpPr/>
            <p:nvPr/>
          </p:nvSpPr>
          <p:spPr>
            <a:xfrm>
              <a:off x="258840" y="1531800"/>
              <a:ext cx="10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2400" y="1531800"/>
              <a:ext cx="137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92280" y="1531800"/>
              <a:ext cx="2240640" cy="1882440"/>
              <a:chOff x="692280" y="1531800"/>
              <a:chExt cx="2240640" cy="188244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2778840" y="2762640"/>
                <a:ext cx="15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845640" y="1893600"/>
                <a:ext cx="1891440" cy="1520640"/>
                <a:chOff x="845640" y="1893600"/>
                <a:chExt cx="1891440" cy="15206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845640" y="1893600"/>
                  <a:ext cx="1891440" cy="1520640"/>
                </a:xfrm>
                <a:prstGeom prst="rect">
                  <a:avLst/>
                </a:prstGeom>
                <a:solidFill>
                  <a:srgbClr val="99ccff">
                    <a:alpha val="50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Expresiones de Interé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“</a:t>
                  </a: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oadmaps”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ibliografí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omis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Programa de Trabaj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1367280" y="3124800"/>
                  <a:ext cx="912240" cy="194400"/>
                  <a:chOff x="1367280" y="3124800"/>
                  <a:chExt cx="912240" cy="194400"/>
                </a:xfrm>
              </p:grpSpPr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6840" y="3124800"/>
                    <a:ext cx="38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7280" y="3124800"/>
                    <a:ext cx="325800" cy="1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22" name=""/>
              <p:cNvSpPr/>
              <p:nvPr/>
            </p:nvSpPr>
            <p:spPr>
              <a:xfrm>
                <a:off x="2932920" y="1531800"/>
                <a:ext cx="0" cy="12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692280" y="2762640"/>
                <a:ext cx="15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5320" y="1531800"/>
                <a:ext cx="0" cy="12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179280" y="1314360"/>
            <a:ext cx="2103120" cy="1561680"/>
            <a:chOff x="179280" y="1314360"/>
            <a:chExt cx="2103120" cy="1561680"/>
          </a:xfrm>
        </p:grpSpPr>
        <p:sp>
          <p:nvSpPr>
            <p:cNvPr id="126" name=""/>
            <p:cNvSpPr/>
            <p:nvPr/>
          </p:nvSpPr>
          <p:spPr>
            <a:xfrm>
              <a:off x="1343160" y="1314360"/>
              <a:ext cx="939240" cy="434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179280" y="1748520"/>
              <a:ext cx="368640" cy="112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3149640" y="1531800"/>
            <a:ext cx="2962080" cy="1882440"/>
            <a:chOff x="3149640" y="1531800"/>
            <a:chExt cx="2962080" cy="1882440"/>
          </a:xfrm>
        </p:grpSpPr>
        <p:grpSp>
          <p:nvGrpSpPr>
            <p:cNvPr id="129" name=""/>
            <p:cNvGrpSpPr/>
            <p:nvPr/>
          </p:nvGrpSpPr>
          <p:grpSpPr>
            <a:xfrm>
              <a:off x="3149640" y="1531800"/>
              <a:ext cx="2962080" cy="1882440"/>
              <a:chOff x="3149640" y="1531800"/>
              <a:chExt cx="2962080" cy="18824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3149640" y="1531800"/>
                <a:ext cx="2962080" cy="1882440"/>
                <a:chOff x="3149640" y="1531800"/>
                <a:chExt cx="2962080" cy="188244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3149640" y="1531800"/>
                  <a:ext cx="2383920" cy="1882440"/>
                  <a:chOff x="3149640" y="1531800"/>
                  <a:chExt cx="2383920" cy="18824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>
                    <a:off x="5369760" y="2762640"/>
                    <a:ext cx="163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3313080" y="1893600"/>
                    <a:ext cx="2012040" cy="1520640"/>
                    <a:chOff x="3313080" y="1893600"/>
                    <a:chExt cx="2012040" cy="152064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313080" y="1893600"/>
                      <a:ext cx="2012040" cy="1520640"/>
                    </a:xfrm>
                    <a:prstGeom prst="rect">
                      <a:avLst/>
                    </a:prstGeom>
                    <a:solidFill>
                      <a:srgbClr val="99ccff">
                        <a:alpha val="50000"/>
                      </a:srgbClr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úsqueda de socios 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gresos, seminarios 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al-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ros conta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3843360" y="3124800"/>
                      <a:ext cx="970920" cy="194400"/>
                      <a:chOff x="3843360" y="3124800"/>
                      <a:chExt cx="970920" cy="194400"/>
                    </a:xfrm>
                  </p:grpSpPr>
                  <p:pic>
                    <p:nvPicPr>
                      <p:cNvPr id="13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07120" y="3124800"/>
                        <a:ext cx="407160" cy="17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843360" y="3124800"/>
                        <a:ext cx="346680" cy="19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sp>
                <p:nvSpPr>
                  <p:cNvPr id="138" name=""/>
                  <p:cNvSpPr/>
                  <p:nvPr/>
                </p:nvSpPr>
                <p:spPr>
                  <a:xfrm>
                    <a:off x="5533560" y="1531800"/>
                    <a:ext cx="0" cy="1230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3149640" y="2762640"/>
                    <a:ext cx="163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174120" y="1531800"/>
                    <a:ext cx="0" cy="1230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"/>
                <p:cNvSpPr/>
                <p:nvPr/>
              </p:nvSpPr>
              <p:spPr>
                <a:xfrm>
                  <a:off x="4955760" y="1531800"/>
                  <a:ext cx="115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254480" y="2255760"/>
                <a:ext cx="1072440" cy="289440"/>
                <a:chOff x="4254480" y="2255760"/>
                <a:chExt cx="1072440" cy="289440"/>
              </a:xfrm>
            </p:grpSpPr>
            <p:pic>
              <p:nvPicPr>
                <p:cNvPr id="14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305240" y="2351520"/>
                  <a:ext cx="795960" cy="19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" name=""/>
                <p:cNvSpPr/>
                <p:nvPr/>
              </p:nvSpPr>
              <p:spPr>
                <a:xfrm>
                  <a:off x="4254480" y="2255760"/>
                  <a:ext cx="107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www.cordis.l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145" name=""/>
            <p:cNvGraphicFramePr/>
            <p:nvPr/>
          </p:nvGraphicFramePr>
          <p:xfrm>
            <a:off x="4525200" y="2617920"/>
            <a:ext cx="285840" cy="286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25200" y="2617920"/>
                      <a:ext cx="285840" cy="28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"/>
          <p:cNvGrpSpPr/>
          <p:nvPr/>
        </p:nvGrpSpPr>
        <p:grpSpPr>
          <a:xfrm>
            <a:off x="6329520" y="4681440"/>
            <a:ext cx="866520" cy="1339560"/>
            <a:chOff x="6329520" y="4681440"/>
            <a:chExt cx="866520" cy="1339560"/>
          </a:xfrm>
        </p:grpSpPr>
        <p:sp>
          <p:nvSpPr>
            <p:cNvPr id="148" name=""/>
            <p:cNvSpPr/>
            <p:nvPr/>
          </p:nvSpPr>
          <p:spPr>
            <a:xfrm>
              <a:off x="6762600" y="4681440"/>
              <a:ext cx="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29520" y="5297040"/>
              <a:ext cx="866520" cy="72396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¿éxit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511440" y="5297400"/>
            <a:ext cx="2817720" cy="650880"/>
            <a:chOff x="3511440" y="5297400"/>
            <a:chExt cx="2817720" cy="650880"/>
          </a:xfrm>
        </p:grpSpPr>
        <p:sp>
          <p:nvSpPr>
            <p:cNvPr id="151" name=""/>
            <p:cNvSpPr/>
            <p:nvPr/>
          </p:nvSpPr>
          <p:spPr>
            <a:xfrm>
              <a:off x="3511440" y="5297400"/>
              <a:ext cx="1806120" cy="65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egocia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rma del cont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17560" y="5658840"/>
              <a:ext cx="101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967360" y="3921120"/>
            <a:ext cx="1590840" cy="79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62600" y="2255760"/>
            <a:ext cx="2130120" cy="1665000"/>
            <a:chOff x="6762600" y="2255760"/>
            <a:chExt cx="2130120" cy="1665000"/>
          </a:xfrm>
        </p:grpSpPr>
        <p:grpSp>
          <p:nvGrpSpPr>
            <p:cNvPr id="155" name=""/>
            <p:cNvGrpSpPr/>
            <p:nvPr/>
          </p:nvGrpSpPr>
          <p:grpSpPr>
            <a:xfrm>
              <a:off x="6762600" y="2255760"/>
              <a:ext cx="2130120" cy="1303200"/>
              <a:chOff x="6762600" y="2255760"/>
              <a:chExt cx="2130120" cy="13032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7629840" y="2472840"/>
                <a:ext cx="1262880" cy="868680"/>
                <a:chOff x="7629840" y="2472840"/>
                <a:chExt cx="1262880" cy="8686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629840" y="2472840"/>
                  <a:ext cx="1262880" cy="868680"/>
                </a:xfrm>
                <a:prstGeom prst="rect">
                  <a:avLst/>
                </a:prstGeom>
                <a:solidFill>
                  <a:srgbClr val="99ccff">
                    <a:alpha val="50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Asesoramiento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P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7808760" y="2827440"/>
                  <a:ext cx="948240" cy="179640"/>
                  <a:chOff x="7808760" y="2827440"/>
                  <a:chExt cx="948240" cy="179640"/>
                </a:xfrm>
              </p:grpSpPr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59200" y="2827440"/>
                    <a:ext cx="397800" cy="1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8760" y="2827440"/>
                    <a:ext cx="338400" cy="1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61" name=""/>
              <p:cNvSpPr/>
              <p:nvPr/>
            </p:nvSpPr>
            <p:spPr>
              <a:xfrm>
                <a:off x="6762600" y="2255760"/>
                <a:ext cx="144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62600" y="3558960"/>
                <a:ext cx="144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8000" y="2255760"/>
                <a:ext cx="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08000" y="3341520"/>
                <a:ext cx="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762600" y="3305520"/>
              <a:ext cx="0" cy="61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823000" y="1843200"/>
            <a:ext cx="1837800" cy="1514160"/>
            <a:chOff x="5823000" y="1843200"/>
            <a:chExt cx="1837800" cy="1514160"/>
          </a:xfrm>
        </p:grpSpPr>
        <p:sp>
          <p:nvSpPr>
            <p:cNvPr id="167" name=""/>
            <p:cNvSpPr/>
            <p:nvPr/>
          </p:nvSpPr>
          <p:spPr>
            <a:xfrm>
              <a:off x="5823000" y="2503080"/>
              <a:ext cx="1837800" cy="854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laboración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entación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 propue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2080" y="184320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65000" y="4718160"/>
            <a:ext cx="1733760" cy="941400"/>
            <a:chOff x="765000" y="4718160"/>
            <a:chExt cx="1733760" cy="941400"/>
          </a:xfrm>
        </p:grpSpPr>
        <p:sp>
          <p:nvSpPr>
            <p:cNvPr id="170" name=""/>
            <p:cNvSpPr/>
            <p:nvPr/>
          </p:nvSpPr>
          <p:spPr>
            <a:xfrm>
              <a:off x="765000" y="4718160"/>
              <a:ext cx="1733760" cy="9414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Auditores exter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om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3"/>
            <a:stretch/>
          </p:blipFill>
          <p:spPr>
            <a:xfrm>
              <a:off x="1776240" y="5007600"/>
              <a:ext cx="338760" cy="17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7196040" y="5442120"/>
            <a:ext cx="1590480" cy="434880"/>
            <a:chOff x="7196040" y="5442120"/>
            <a:chExt cx="1590480" cy="434880"/>
          </a:xfrm>
        </p:grpSpPr>
        <p:sp>
          <p:nvSpPr>
            <p:cNvPr id="173" name=""/>
            <p:cNvSpPr/>
            <p:nvPr/>
          </p:nvSpPr>
          <p:spPr>
            <a:xfrm>
              <a:off x="7196040" y="5659560"/>
              <a:ext cx="3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7480" y="5442120"/>
              <a:ext cx="1229040" cy="434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909840" y="5006880"/>
            <a:ext cx="4838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42240" y="5006880"/>
            <a:ext cx="37260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787480" y="4138560"/>
            <a:ext cx="2746080" cy="1521000"/>
            <a:chOff x="2787480" y="4138560"/>
            <a:chExt cx="2746080" cy="1521000"/>
          </a:xfrm>
        </p:grpSpPr>
        <p:grpSp>
          <p:nvGrpSpPr>
            <p:cNvPr id="178" name=""/>
            <p:cNvGrpSpPr/>
            <p:nvPr/>
          </p:nvGrpSpPr>
          <p:grpSpPr>
            <a:xfrm>
              <a:off x="3148560" y="4138560"/>
              <a:ext cx="2385000" cy="1520640"/>
              <a:chOff x="3148560" y="4138560"/>
              <a:chExt cx="2385000" cy="152064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5369040" y="4428360"/>
                <a:ext cx="16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33560" y="4428360"/>
                <a:ext cx="0" cy="12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148560" y="4428360"/>
                <a:ext cx="16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2680" y="4428360"/>
                <a:ext cx="0" cy="12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365280" y="4138560"/>
                <a:ext cx="2013120" cy="579240"/>
                <a:chOff x="3365280" y="4138560"/>
                <a:chExt cx="2013120" cy="579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65280" y="4138560"/>
                  <a:ext cx="2013120" cy="579240"/>
                </a:xfrm>
                <a:prstGeom prst="rect">
                  <a:avLst/>
                </a:prstGeom>
                <a:solidFill>
                  <a:srgbClr val="99ccff">
                    <a:alpha val="50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ontrat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sesoramie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908240" y="4469040"/>
                  <a:ext cx="40788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232520" y="4210920"/>
                  <a:ext cx="347760" cy="19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665960" y="4210920"/>
                  <a:ext cx="221400" cy="43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8" name=""/>
            <p:cNvSpPr/>
            <p:nvPr/>
          </p:nvSpPr>
          <p:spPr>
            <a:xfrm>
              <a:off x="2787480" y="5659560"/>
              <a:ext cx="65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81000" y="5224320"/>
            <a:ext cx="1806480" cy="79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guimient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ecución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ás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2216160"/>
            <a:ext cx="54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 u="sng">
                <a:solidFill>
                  <a:srgbClr val="ff9900"/>
                </a:solidFill>
                <a:uFillTx/>
                <a:latin typeface="Times New Roman"/>
              </a:rPr>
              <a:t>CDTI  </a:t>
            </a:r>
            <a:r>
              <a:rPr b="1" i="1" lang="es-ES" sz="5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s-ES" sz="54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lang="es-ES" sz="5400" spc="-1" strike="noStrike" u="sng">
                <a:solidFill>
                  <a:srgbClr val="000000"/>
                </a:solidFill>
                <a:uFillTx/>
                <a:latin typeface="Times New Roman"/>
              </a:rPr>
              <a:t>www.cdti.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016520" y="1844640"/>
          <a:ext cx="486540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6520" y="1844640"/>
                    <a:ext cx="486540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4940280"/>
            <a:ext cx="8521920" cy="1104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960" rIns="75960" tIns="37800" bIns="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63520" y="1544400"/>
            <a:ext cx="8724960" cy="43214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sesoramiento de experto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en las áreas de interés recogidas en el P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Información puntu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 necesidades de empresas y centros de investigación presentes y futuras tanto desde un punto de vista científico/técnico como administrativ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poyo activo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 entidades españolas (empresas, universidades, CT, CI,   etc.) en la preparación y el envío de propuestas: orientación, seguimiento,  formación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yuda financier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ara la preparación de propuestas TECNOEUROP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52520" y="196560"/>
            <a:ext cx="731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é es lo que ofrece el CDT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4080" y="-1800"/>
            <a:ext cx="7269120" cy="7347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lan de activación de la participación española en el VII P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3162240"/>
            <a:ext cx="8553600" cy="18806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Objetivo: Conseguir que los retornos de España del VII PM sean equivalentes a nuestro peso económico en la UE-25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tivo de retornos: 7% en 2008; 8% en 2010 (actualmente 5,8%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tivo de liderazgo: 6% en 2008; 7% en 2010 (actualmente 5,1%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4560" y="5331240"/>
            <a:ext cx="7269120" cy="73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mentar significativamente la participación de entidades españ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75120" y="4940280"/>
            <a:ext cx="914400" cy="355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10000" y="703440"/>
            <a:ext cx="48830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3600" y="20988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ncipios del Plan de Activació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875880"/>
            <a:ext cx="8724960" cy="5444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lnSpc>
                <a:spcPct val="8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Priorizar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las actuaciones internacionales en los Planes Nacionales y Autonómicos de I+D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Fijar objetivos de retornos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por prioridades temática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romover y facilitar la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gestión profesional de los proyectos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mediante la creación de oficinas de proyectos internacionale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centivar la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cooperación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y participación conjunta en el VII de más grupos de investigación con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empresas española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Incentivar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la participación de los investigadores mediante el reconocimiento de su carrera investigador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mentar el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liderazgo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de proyect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24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segurar un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apoyo temprano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 Plataformas Tecnológicas, Universidades y CC TT mediante contratos programa y primas por resultad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19040" y="1206360"/>
            <a:ext cx="8724960" cy="4834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UROCIENC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able: Ministerio de Educación y Ciencia en coordinación con Universidades y CC A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dida: Recompensar con fondos a los centros públicos de investigación que mejores sus retornos del P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UROSALUD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able: Ministerio de Sanidad y Consumo (Instituto Carlos III) en coordinación con las CC A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didas: Financiará a hospitales para cubrir las actividades asistenciales de los profesionales que entren en un programa de investigación del VII PM. Creación de una Oficina de Proyectos Europeos en Biomedicina y Ciencias de la Salu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3840" y="26712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didas del Plan (I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19040" y="1206000"/>
            <a:ext cx="8724960" cy="4559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NOEUROP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able: DGPYMES del Ministerio de Industria Turismo y Comerci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dida: Recompensar con fondos a los centros tecnológicos (CC TT) que mejoren sus retornos del P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CNOEUROPA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able: CDTI en coordinación con las CC AA, CC TT y asociaciones empresaria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didas: Financiación para la creación de Unidades de Innovación Internacional; Programa de Bonos tecnológicos para las empresas y Fondo de Internacionalización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36600" y="224280"/>
            <a:ext cx="726912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didas del Plan (I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19040" y="1828440"/>
            <a:ext cx="7564320" cy="3080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ción de Unidades de Innovació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nacio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cio de Bonos Tecnológ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jores ayudas para la preparación d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puestas : APC +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didas de acompañami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4520" y="144360"/>
            <a:ext cx="7710480" cy="65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Creación de Unidades de Innovación Internacional</a:t>
            </a:r>
            <a:br>
              <a:rPr sz="2000"/>
            </a:b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1206000"/>
            <a:ext cx="8724960" cy="3610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bjetivo: promover la creación de Unidades de Innovación Internacionales (UII) para incorporar a   empresas nuevas al Programa Marco (y a otros programas internacionales que gestiona el CDTI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ficiari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ociaciones empresarial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imismo, entidades con personalidad jurídica propia que coordinen la gestión de la I+D internacional en el ámbito de las Plataformas Tecnológica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0:52:40Z</dcterms:created>
  <dc:creator>jgs</dc:creator>
  <dc:description/>
  <dc:language>en-US</dc:language>
  <cp:lastModifiedBy>jgs</cp:lastModifiedBy>
  <dcterms:modified xsi:type="dcterms:W3CDTF">2007-02-06T10:22:51Z</dcterms:modified>
  <cp:revision>117</cp:revision>
  <dc:subject/>
  <dc:title>“Actividades de la Dirección Internacional del CDTI. Programa Marco de I+D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4159331</vt:r8>
  </property>
  <property fmtid="{D5CDD505-2E9C-101B-9397-08002B2CF9AE}" pid="3" name="_AuthorEmail">
    <vt:lpwstr>JGS@cdti.es</vt:lpwstr>
  </property>
  <property fmtid="{D5CDD505-2E9C-101B-9397-08002B2CF9AE}" pid="4" name="_AuthorEmailDisplayName">
    <vt:lpwstr>Javier Garcia Serrano</vt:lpwstr>
  </property>
  <property fmtid="{D5CDD505-2E9C-101B-9397-08002B2CF9AE}" pid="5" name="_EmailEntryID">
    <vt:lpwstr>00000000A13B6EBE44AB6349801CE5AD65119275070082C15E48EBF470489C1B694AAAF038D600000098D750000060C3DC66AC44BC40A690907F8F2EEE6D0000010C5FDC0000</vt:lpwstr>
  </property>
  <property fmtid="{D5CDD505-2E9C-101B-9397-08002B2CF9AE}" pid="6" name="_EmailStoreID">
    <vt:lpwstr>0000000038A1BB1005E5101AA1BB08002B2A56C20000454D534D44422E444C4C00000000000000001B55FA20AA6611CD9BC800AA002FC45A0C0000004344544945585642002F4F3D434454492F4F553D4D41445249442F636E3D526563697069656E74732F636E3D70646100</vt:lpwstr>
  </property>
  <property fmtid="{D5CDD505-2E9C-101B-9397-08002B2CF9AE}" pid="7" name="_EmailSubject">
    <vt:lpwstr>Revise "Tecnoeuropa ELT febrero 2007"</vt:lpwstr>
  </property>
  <property fmtid="{D5CDD505-2E9C-101B-9397-08002B2CF9AE}" pid="8" name="_PreviousAdHocReviewCycleID">
    <vt:r8>652678168</vt:r8>
  </property>
  <property fmtid="{D5CDD505-2E9C-101B-9397-08002B2CF9AE}" pid="9" name="_ReviewCycleID">
    <vt:r8>-2112437557</vt:r8>
  </property>
</Properties>
</file>